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4627-7B95-4E83-A34A-3D727101D9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04B4-CFDE-4423-B366-3FB6695D88AC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C79D-3369-42DB-936E-BAAE8AB2E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4FEA-43A2-426A-B678-5A85F4C2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59A9-B4A3-4FA0-9031-DFE255FAE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D470-9712-47F6-B8AA-EF791F784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EB04-26C2-4065-92E9-6D300696D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A876-C20F-4874-97A3-6CED7FE4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4447-7FDE-43C3-946F-4FA716CB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FD12-12CC-458C-A3AA-8A75C0A2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F62C-55EB-4165-9BC8-ABCB4B51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E7D5-0A2C-42CA-85AF-74EC1150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6BA0-58B3-4B78-A8C9-4FD81F52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25D0-394B-46CD-B743-D1B87559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EBF1-C827-43E9-A6E9-7FBC23B9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55CF-4A2E-4B9D-A00F-302826B7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C2FA-D8D9-4731-A3D7-65CB4A65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32C4-E64E-49A5-8751-BF5FA36E7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1766-C7F6-4B1C-8694-AB96238EB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CD281-15C5-4686-A9FF-B31B8332A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FB6D7-65D3-40D3-B0DD-53ED7F89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962DB-E17C-4DCF-83E5-5127806D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2132A-4111-4635-B068-189ACC68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2AFFF-1FEA-48A6-8DBB-EA79AFD3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3F3C-7466-4127-B0C1-96E7DF15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51841-70E8-4055-8FF0-420C3E8C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A5D63-E402-40C1-8200-009A2F1B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FA0E5-C86F-4725-B547-BF04E1F3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E057A-D7DE-4BA7-8326-E0CD0D89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70A75-DB2E-40C6-A3DF-86FD7FFD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7CFEE-8E20-4561-84C6-9ED2E4578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59B57-2062-4013-933C-D70AAD10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4AAFA-F03F-4996-9056-08204748A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52720-50AC-4E24-A2E5-5D03B6ED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999E1-85C4-4B70-9BA3-9DDE77A2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4DA0-4D2D-4C08-B16D-8571D7FC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7FFC9-527C-4956-8A4D-876C1F72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502A2-E3F8-4521-A93F-E3BFBF14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0EB4E-4A34-4056-AAE7-4185B0EB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D15E5-C79F-416A-8C65-B7CD0CB3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841F7-90D9-4A45-ACB5-B4663D66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09F5C-6DDF-43DD-8D8A-18E282A0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B2517-E893-40F8-B6CF-3D0266D6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C471B-EE3E-4572-B2CA-47F5D0C2B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03534-A549-4FAA-93BE-A2BEBD886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34DBF-48E6-4FE4-98F2-6A0359CC5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5745-D57A-447D-9F2A-5F58097A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4C8D6-6A49-4C76-87CC-8F777E43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E162B-3B99-4BBD-97CB-F385A2FD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3DC5E-91EF-432A-9FDB-FF3F0469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39339-4252-4F99-95BC-6ABA8561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AAD76-0008-4827-B7BD-AC90BE42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1465C-D53A-4F22-9D87-EBE564FF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666DA-860E-46D8-8718-94892DE0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48C02-02E0-49DF-AE13-EF3BAEEC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C5497-9F2C-4A28-8793-799D9852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5B57D-9CFD-4ED2-AD62-F66F4E58B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2D3B-9B12-4B8D-9BE7-CBB85169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B2399-D00A-4A37-AFFC-D70B8B4E9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E765E-31DC-4D25-86D8-0716707B1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5BED4-F447-4B00-B33B-9DD98946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4AAB5-37CA-4431-A80A-43AD5B5D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84FCB-48BF-44EF-90AB-EA36196F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729D3-8EDE-4896-936A-300BD46F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BB94D-21A6-4CEA-B8FC-15340D71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1FF83-E8FB-4863-8E67-CC1D356F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F6DE0-CC1C-4F24-9B23-4171D9DB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A75EF-F6A4-4C4A-B84E-48ABEA95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5D8E-72DE-4D88-B15D-1FB56B6D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4CF30-BAB6-4B9C-92D5-37EEDD83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31D95-0F2F-454F-9578-FC75245FD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45719-218C-4C9F-BDBB-D38A9A49B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3A15-0D67-4253-8C40-93D77D40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9FDA-98A4-4B47-92C2-60B8E197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8B85-4BCE-4B05-8634-8280AC4D744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FD18-0F77-499B-829D-68F464933E4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6347-C475-4CFB-9AF2-BA1DB5CD919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33E1-2A0F-4264-835A-19C44351199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5B81-0E8B-40F5-BB3F-C6E2E61C661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9C62-21B4-4CFB-8382-6AFFB6F32BF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2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2,7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4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4,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5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1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39,74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28720" y="469800"/>
            <a:ext cx="7844760" cy="769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1 год – 485,71 млн.руб. (местный бюджет – 174,73 млн.руб., краевой бюджет –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65,08</a:t>
            </a: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лн.руб., федеральный бюджет – 45,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85,1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1 год – 11,0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28,8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ПЕРЕСЕЛЕНИЕ ГРАЖДАН ИЗ АВАРИЙНОГО ЖИЛИЩНОГО ФОНДА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1 год – 18,11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4,9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5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588960" y="122400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(по состоянию на 01.10.2020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0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1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9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36264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 обеспечение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ализацию программ формирования совре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приобретение спортзала, спортинвентаря, ремонт зданий и благоустройство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оснащение детских школ искусств муз.инструмента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монт автомоб.дорог за счет дорожного фонда ПК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общего образования в муниципальных школах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1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9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горячи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 на выплату педагогам школ за классное руководств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1 ГОД (824,74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1 ГОДУ (395,15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20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1-2023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ГОДУ (361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9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5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8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 ГОД (839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34:40Z</dcterms:modified>
  <cp:revision>260</cp:revision>
  <dc:subject/>
  <dc:title>Структура собственных доходов на 2016 год бюджета Дальнереченского городского округа</dc:title>
</cp:coreProperties>
</file>